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2.wmf" ContentType="image/x-wmf"/>
  <Override PartName="/ppt/media/image6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B5A-17BF-4C04-BC72-5464E34B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596628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50E-A28F-498C-9733-8C525AF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3D8-8DEF-4E10-A543-67B017D6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1C4-4660-4787-BE87-2DE1E555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78B-F990-4A80-8157-264C5892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503-E99E-46AE-A3F4-FCD4026F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F97-4D08-4A62-9AE8-9D41D35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F77-902D-45F0-AC28-F97F4A71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394-8BD3-4805-B853-4F771BE6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266-124F-44CF-9358-4F7BD1B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157-4E14-41E5-B67B-26C1D8F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FD6-8575-4E53-8A13-FD2394D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C66E-7C2D-4396-B943-9E54EE3E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5;&#1076;&#1086;&#1085;" TargetMode="External"/><Relationship Id="rId2" Type="http://schemas.openxmlformats.org/officeDocument/2006/relationships/hyperlink" Target="http://oboi.kards.ru/tags/view/&#1040;&#1085;&#1075;&#1083;&#1080;&#1103;/9/1/" TargetMode="Externa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Bookman Old Style"/>
              </a:rPr>
              <a:t>ВЕЛИКОБРИТ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6248520"/>
            <a:ext cx="6400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знецова Викт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3520" y="2225520"/>
            <a:ext cx="4372200" cy="349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763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водный урок по англий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6248520"/>
            <a:ext cx="89917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аких замках  раньше жили рыцари  – это храбрые воины, которые носили доспехи и сражались за свою страну, короля или короле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584440" cy="277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300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7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8240" y="6294240"/>
            <a:ext cx="89154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царей уже давно нет, зато сохранились  замки и по прежнему живут кор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92240"/>
            <a:ext cx="8686800" cy="5675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42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и дни в Великобритании живет  Королева Елизаве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81520" cy="586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27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485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олевская резиденция  - Букингем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594560" cy="569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35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4008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ощади возле дворца находится мемориал Королевы Вик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94000" y="76320"/>
            <a:ext cx="4464000" cy="6019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18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опримечательности Великобритании - Трафальгарская площ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9360" y="361800"/>
            <a:ext cx="8483760" cy="552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90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64008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менитый  Тауэрский мост тоже находится в Англ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92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ная башня с часами Биг Бен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7240"/>
            <a:ext cx="7950240" cy="5962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16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62485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ы будете в Англии, обязательно покатайтесь на знаменитом колесе  обозрения - «Лондонский гла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18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ый язык  Великобритании – англий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746840" cy="581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98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61718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ы знаете, что Вини-Пух со своими друзьями  живет в стране, которая называется Великобритания, а если по короче – то Британия или Анг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1760"/>
            <a:ext cx="7848360" cy="588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1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9080" y="6324480"/>
            <a:ext cx="658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й стране  живут люди по национальности – англич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90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6248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295280" y="36180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45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453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9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А вы хотите понимать такую речь?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А  разговаривать на английском язы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 на следующем уроке мы займемся изучением английского язы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244520"/>
            <a:ext cx="7188120" cy="479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456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Давайте узнаем, что вы запомн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447920"/>
            <a:ext cx="8763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зывается страна, в которой живет Вини-Пу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ком языке говорят в Брит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звали в древней Англии храбрых воин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самый главный в стра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достопримечательности вы запомн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изображено на флаге Великобрита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62720" y="3067200"/>
            <a:ext cx="3504960" cy="29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376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834160"/>
            <a:ext cx="9144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Фотографии взяты с сайтов 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wiki/%D0%9B%D0%BE%D0%BD%D0%B4%D0%BE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i.kards.ru/tags/view/%D0%90%D0%BD%D0%B3%D0%BB%D0%B8%D1%8F/9/1/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819520" y="1600200"/>
            <a:ext cx="3429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248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рте мира  Великобритания обведена  красным кружком, правда маленькая стра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493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95680" y="13716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3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06200"/>
            <a:ext cx="6934320" cy="5989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1920" y="6141960"/>
            <a:ext cx="8915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мы рассмотрим карту поближе, то увидим, что Великобритания это остров, омываемый Атлантическим океаном, Северным и Ирландским мор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57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6248520"/>
            <a:ext cx="8915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лаг Великобритании  - синее полотно с красными перекрещивающимися поло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38080" y="690480"/>
            <a:ext cx="7467840" cy="479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503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32448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Британии – Лонд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670880" cy="575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36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617220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обритания древняя страна, со множеством старинных замков, соору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5577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22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63241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историческое собрание каменных глыб - Стоунхен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467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2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182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тминстерское аббат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76440" y="76320"/>
            <a:ext cx="4457880" cy="5943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i</cp:lastModifiedBy>
  <dcterms:modified xsi:type="dcterms:W3CDTF">2007-10-24T17:59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